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D214-4A1D-48A6-91C1-ED1148048C7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3492-01B7-40D7-A760-EA0306AFFEE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4848-3C3A-47FE-9CA7-B93CE0BDE46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3327-C734-46EC-B36F-9D17828731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979-C3E6-4655-889F-ED97333A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E87-47CA-488E-A030-DAE93B94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265-1EC8-49DE-B317-FFFB07A6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851-D8B5-4E4D-8F66-F716E9C9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CF7-969D-4E61-98F6-1C1AD2A2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AE0E-7741-4EEA-9DE9-BAAD12D9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2B5-E0B4-4F2F-BB96-EFA12A93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EA9-63CD-4B1D-BC25-084990A8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2E9-676A-4D02-BD49-1EB3F9D3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797-967C-473A-9698-01B741F5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22A-4B57-4D2C-AEED-56B4715B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1BE2-672F-477E-82F4-61DB2FB4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9F52-39A3-4B98-AE15-5C99F610E6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Konkurencja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efinicja konkurencji, jej formy i narzędz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Definicja konkurencji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22856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kt lub proces działania jednostek dążących do takich korzyści, o które w tym samym czasie, przy tych samych warunkach i regułach ubiegają się inn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84360" y="6021360"/>
            <a:ext cx="777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Żródło: Noga, A., 1993, Dominacja a efektywna konkurencja, Oficyna Wydawnicza SGH, Warszaw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Formy konkurencji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Diagram 3" descr=""/>
          <p:cNvPicPr/>
          <p:nvPr/>
        </p:nvPicPr>
        <p:blipFill>
          <a:blip r:embed="rId1"/>
          <a:stretch/>
        </p:blipFill>
        <p:spPr>
          <a:xfrm>
            <a:off x="1347840" y="1554120"/>
            <a:ext cx="63021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Narzędzia konkurencji cenowej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ziom cen usług (produktów) oraz usług towarzyszących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eny promocyjne i upust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arunki płatn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D:\Data\awinniczuk\AppData\Local\Microsoft\Windows\Temporary Internet Files\Content.IE5\OC6AOKSA\MC900312094[1].wmf"/>
          <p:cNvPicPr/>
          <p:nvPr/>
        </p:nvPicPr>
        <p:blipFill>
          <a:blip r:embed="rId1"/>
          <a:stretch/>
        </p:blipFill>
        <p:spPr>
          <a:xfrm>
            <a:off x="5651640" y="3760920"/>
            <a:ext cx="21762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Narzędzia konkurencji jakościowej</a:t>
            </a:r>
            <a:endParaRPr b="1" lang="en-US" sz="4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Jakość usługi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wprowadzanie nowych usług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renoma firmy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stosowanie nowoczesnych technologii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ekologiczność produktów i usług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dostosowywanie usług do potrzeb klientów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76092"/>
                </a:solidFill>
                <a:latin typeface="Calibri"/>
              </a:rPr>
              <a:t>Narzędzia konkurencji marketingowej</a:t>
            </a:r>
            <a:endParaRPr b="1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Reklam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ublic relations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ogramy lojalnościowe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utrzymywanie kontaktu z klientami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zybkie reagowanie na sygnały klientów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ortale społecznościowe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połeczna odpowiedzialność biznes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Data\awinniczuk\AppData\Local\Microsoft\Windows\Temporary Internet Files\Content.IE5\4VQMB90G\MC900104726[1].wmf"/>
          <p:cNvPicPr/>
          <p:nvPr/>
        </p:nvPicPr>
        <p:blipFill>
          <a:blip r:embed="rId1"/>
          <a:stretch/>
        </p:blipFill>
        <p:spPr>
          <a:xfrm>
            <a:off x="5364000" y="1628640"/>
            <a:ext cx="24480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Narzędzia konkurencji obsługowej</a:t>
            </a:r>
            <a:endParaRPr b="1" lang="en-US" sz="4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mpleksowość usług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stępność usługi na rynku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akość i szybkość obsług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pewnienie dogodnego czasu i miejsca świadczenia usług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różnicowanie kanałów dystrybucj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ługi świadczone w zestaw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ługi posprzedażow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7"/>
          <p:cNvSpPr/>
          <p:nvPr/>
        </p:nvSpPr>
        <p:spPr>
          <a:xfrm>
            <a:off x="142920" y="50004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Główne modele konkuren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86000" y="142920"/>
          <a:ext cx="6715080" cy="6121440"/>
        </p:xfrm>
        <a:graphic>
          <a:graphicData uri="http://schemas.openxmlformats.org/drawingml/2006/table">
            <a:tbl>
              <a:tblPr/>
              <a:tblGrid>
                <a:gridCol w="1841400"/>
                <a:gridCol w="1209600"/>
                <a:gridCol w="1221120"/>
                <a:gridCol w="1220760"/>
                <a:gridCol w="1222200"/>
              </a:tblGrid>
              <a:tr h="3848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ec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78c0d4"/>
                      </a:solidFill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Konkurencja doskonał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Konkurencja monopolistycz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Konkurencja oligopolistycz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zysty monop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 w="57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3848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czba producentów/sprzedający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78c0d4"/>
                      </a:solidFill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ż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ie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ilk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d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 w="57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3848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ielkość rynku przedsiębiorstw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78c0d4"/>
                      </a:solidFill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ł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czej mał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ż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ża lub mał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 w="57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różnicowanie produkt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78c0d4"/>
                      </a:solidFill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kty jednorodne, identycz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yroby różniące się w niewielki sposób, bliskie substytu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kty identyczne, standardowe lub zróżnicowa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e istnieją bliskie substytuty, produkt unikatow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 w="57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153828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formacja rynkow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78c0d4"/>
                      </a:solidFill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oskonała przejrzystość, sprzedający i kupujący dysponują pełną wiedzą o rynku, produktach i cena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ysoki stopień nieprzejrzystości rynku, ograniczona wiedza o rynk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upujący mogą być dobrze poinformowani, ale nie musi tak być, wysoki stopień nieprzejrzystości rynk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 uwagi na jednego producenta zakres informacji duż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 w="57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ariery wejścia na ryn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78c0d4"/>
                      </a:solidFill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sk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osunkowo nisk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ysok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ysok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 w="57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115380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pływ producentów na cen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78c0d4"/>
                      </a:solidFill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ak wpływu na cen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naczący, kontrola cen zależy od zróżnicowania produktów oraz liczby i bliskości konkurent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naczący, ograniczony współzależnością cenową, duży w przypadku zmow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ak konkurencj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 w="57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</a:tr>
              <a:tr h="115380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tody konkurow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78c0d4"/>
                      </a:solidFill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yłącznie konkurencja cenow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nkurencja poza-cenowa oparta na promocji, jakości, udogodnieniach w sprzedaż, it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ak w przypadku konkurencji monopolistycznej także przez różnicowanie produkt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ak konkurencj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 w="57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</a:tr>
            </a:tbl>
          </a:graphicData>
        </a:graphic>
      </p:graphicFrame>
      <p:sp>
        <p:nvSpPr>
          <p:cNvPr id="69" name="pole tekstowe 1"/>
          <p:cNvSpPr/>
          <p:nvPr/>
        </p:nvSpPr>
        <p:spPr>
          <a:xfrm>
            <a:off x="2195640" y="6308640"/>
            <a:ext cx="56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Arial"/>
              </a:rPr>
              <a:t>Źródło: Jonas A., 2002, Strategie konkurencji na rynku usług bankowych, PTH, Warszaw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12T21:50:56Z</dcterms:modified>
  <cp:revision>22</cp:revision>
  <dc:subject/>
  <dc:title>Slajd 1</dc:title>
</cp:coreProperties>
</file>